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C080-17A8-4733-AF3D-E3FDE4CA8E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8C25-1567-4660-90D0-7FF69D4998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7744-7C55-4D40-AED0-57D91E7EFE2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5C43-4EF3-446A-B17D-044EF8F817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C75-A1CE-4876-B41F-E01D467C7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4D58-F62B-4B56-AB5B-5FA58149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1B6-0B86-4B68-A2C4-A4118385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D0E-EFDF-476E-AE84-F2ADF7DC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779D-6452-4E6A-A451-A2318513E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3FD-F868-4FF0-A85A-8CBB3936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BDDD-10C0-4E21-95EA-880F0718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B897-91B0-411C-AC13-2215CD72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95FE-8914-4673-AB02-92F1361D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CBFD-2191-4F18-9F79-65DDC8C1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1A94-A04D-49BA-AD9A-E8B0569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009-2524-4251-9946-CF63C89D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73B7-4FFD-4769-B6BE-DDBA39FE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DF8A-DF89-41C9-8F8D-85B7854A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FA3E-9819-4956-9BA2-F42AB6A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052B-0690-438A-8293-0181A282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BF7A-192C-475C-8ECC-53CE190F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1C2A-1F91-445A-8049-8E777617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B763-8C01-47E3-8051-1164357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EA229-B5EE-483F-AD6A-34B8DBC9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631A9-24C4-45AA-B47B-B29CC0F4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ABBE-44EE-4B3E-8D90-198516B8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1BE-F35A-4507-88C0-B3A9DD75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4D2EC-1B40-42A1-B86C-D82D5215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0457-122D-463D-8861-E88F4613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6EFD-8F79-4174-8D94-A4FF9EE3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A6FE-A3A0-4702-80FC-667213B7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DA85-001E-4AA7-A1DD-CD389EB3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BDF57-B5B5-49D5-833E-FC090007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EED5-1CE9-4919-BC64-4D49C6C5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5620E-86E5-4816-8B22-226EBF01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E3E4-EAD1-425C-B5A7-AFA45098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A719F-65BF-4639-9441-05D8E2A1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C44-5684-4F8F-8F47-DED9FBBC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74665-03C1-4383-86FD-6DE43200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9C85-86E7-49E9-86C2-AE3301B1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FE59B-5241-4F8D-A01F-DB9E2361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CFCE9-7954-43AF-B439-193D914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778A-24ED-43BD-B8AC-4C593EB1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1DF0-8206-4C64-A29C-7355F7A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76893-33A8-4AE5-BEA4-239D8D47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3DB6-3FA7-4CDA-BE6D-139D192B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8AFD7-AFC5-4A3F-ABDB-44700DBE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8FBA-F55C-4404-ABED-623C1FD7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39E-7D79-4E44-A654-A43BACB4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6047-EFB2-4CD7-B2D8-C43B40A7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7BE31-0B72-4AC0-BC8F-0853B8BE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97BC-F2BA-496A-8A58-169B9264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794E9-BFF8-487E-8297-8BA8FA7D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013B-F01F-4A02-A383-23C55CEF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F212C-DF81-41AB-80E6-ED4F05E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59C6-31B2-4F4E-ADE1-D711ED5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EB90-3651-4887-8171-3F2C1DE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F22D1-5A00-4DFC-8AC6-5024FEC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4366-2BEA-4496-B96E-A1D9543F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71CD-770C-47A7-B639-7A044761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9B58B-7343-4BC9-A957-21B19C1C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F15-75CA-4933-9923-A151AA1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CBB-1B9C-4C59-AABF-773D35EB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5551-04E6-4CD4-896C-767FE31B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732-E6E2-4AED-A6D1-79DE547AA985}" type="datetime">
              <a:rPr b="0" lang="it-IT" sz="1000" spc="-1" strike="noStrike">
                <a:solidFill>
                  <a:srgbClr val="b13f9a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imes New Roman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600A-4008-4763-ABB5-43AB155BC0F2}" type="slidenum">
              <a:rPr b="0" lang="it-I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ttangolo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ttangolo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Connettore 1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CFC9-D23B-4474-BF65-DC6C89869559}" type="datetime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8F4-057B-4F85-9E6C-9EB92882D612}" type="slidenum">
              <a:rPr b="0" lang="it-IT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59FC-D0E7-4186-9B60-6970C7700329}" type="datetime">
              <a:rPr b="0" lang="it-IT" sz="1000" spc="-1" strike="noStrike">
                <a:solidFill>
                  <a:srgbClr val="b13f9a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imes New Roman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729-B2B6-4CAF-96AA-48D8B6E9F411}" type="slidenum">
              <a:rPr b="0" lang="it-I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ttangolo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ttangolo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EAE-2F86-4DAF-B32C-C02EEA66EC38}" type="datetime">
              <a:rPr b="0" lang="it-IT" sz="1000" spc="-1" strike="noStrike">
                <a:solidFill>
                  <a:srgbClr val="f4e7ed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4e7ed"/>
                </a:solidFill>
                <a:latin typeface="Times New Roman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A4E-0AC1-4731-BCFA-C0DCC3F52653}" type="slidenum">
              <a:rPr b="0" lang="it-IT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ttangolo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ttangolo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32B-D12E-431A-8A53-667796BA8094}" type="datetime">
              <a:rPr b="0" lang="it-IT" sz="1000" spc="-1" strike="noStrike">
                <a:solidFill>
                  <a:srgbClr val="b13f9a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Times New Roman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6BB1-2E18-4F57-9196-08B8C945C8F4}" type="slidenum">
              <a:rPr b="0" lang="it-IT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olo 1" descr=""/>
          <p:cNvPicPr/>
          <p:nvPr/>
        </p:nvPicPr>
        <p:blipFill>
          <a:blip r:embed="rId1"/>
          <a:stretch/>
        </p:blipFill>
        <p:spPr>
          <a:xfrm>
            <a:off x="3230640" y="901800"/>
            <a:ext cx="5595840" cy="33289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700360" y="4797000"/>
            <a:ext cx="5688000" cy="10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Trebuchet MS"/>
              </a:rPr>
              <a:t>Sede IIS L.Einaudi, via f.lli Sirani, 1 Chiar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2819520" y="6558120"/>
            <a:ext cx="292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499760"/>
            <a:ext cx="7715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Accogliere la preoccupazione delle Famiglie che si interrogano sulla scelta dell’indirizzo più adat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ocenti indicazioni sulle prassi da segui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Condivisione di azioni per attivare modalità comuni, disseminazione di strategie, metodologie, strumenti e contenuti in un reale impianto di rete a carattere integrato, linguaggi comuni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Incontri specifici con i referenti per l’inclusione sul territorio per le “buone prassi”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Consulenza, accompagnamento e azioni di tutoraggio per  le situazioni di particolare complessità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olo 1" descr=""/>
          <p:cNvPicPr/>
          <p:nvPr/>
        </p:nvPicPr>
        <p:blipFill>
          <a:blip r:embed="rId1"/>
          <a:stretch/>
        </p:blipFill>
        <p:spPr>
          <a:xfrm>
            <a:off x="281160" y="30240"/>
            <a:ext cx="7424640" cy="1438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000000"/>
                </a:solidFill>
                <a:latin typeface="Trebuchet MS"/>
              </a:rPr>
              <a:t>Criticità ancora presenti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nel passaggio alla scuola secondaria di II grado, gli alunni con disabilità scelgono in larga maggioranza gli istituti professionali; i dati sono stabili da anni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manca l’accompagnamento di ogni alunno nel passaggio alla scuola di grado successivo, non è assicurato il passaggio di informazioni e di documentazione al Dirigente della scuola di destinazione;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corso d’anno scolastico si registrano numerosi cambi di scuola legati a insoddisfazione delle famiglie o ad orientamenti poco curati, con conseguente difficoltà ad assicurare le risorse necessari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olo 1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712280" cy="12366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6840" y="1916280"/>
            <a:ext cx="77151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Studenti con percorso scolastico nella scuola italiana: «Progetto Ponte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Trasmissione di informazioni sul percorso scolastico dell’alunno straniero per favorire e facilitare il passaggio tra scuole Secondarie di 1° e 2° grado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Compilazione di un questionario di conoscenz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CER, livelli di acquisizione dell’Italiano L2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rotocollo Provinc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rogetto Ponte Istituti Compresiv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rogetto Ponte Istituti Compresivi alunni stranier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rotocollo d’intesa Scuole secondarie di secondo grad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Studenti neoarrivati dal paese d’origine in corso d’anno: «Progetto Orientamento informativo SISTIM 2»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rogetto Orientamento informativo SISTIM 2 per l’iscrizione dell’alunno straniero neoarrivato dal paese d’origine da orientare alla scuola secondaria di 2°grado, ma PREISCRITTO alla scuola secondaria di 1° grado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9528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rebuchet MS"/>
              </a:rPr>
              <a:t>Normativa di riferimento: Atto di indirizzo programmatico provinciale per l’integrazione degli alunni con cittadinanza non italiana (USP Brescia, 2510-2006, modificato il 04-01-2008)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Trebuchet MS"/>
              </a:rPr>
              <a:t>Gli alunni con più di 14 anni saranno preiscritti/accolti alla Scuola secondaria di 1° grado di competenza territoriale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00000"/>
                </a:solidFill>
                <a:latin typeface="Trebuchet MS"/>
              </a:rPr>
              <a:t>Gli alunni con più di 15 anni (16 compiuti entro il 31 dicembre) fino ai 18 anni sono preiscritti alla scuola secondaria di 1° grado per un breve periodo di orientamento informativo, finalizzato alla scelta della scuola secondaria di 2° grado.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Trebuchet MS"/>
              </a:rPr>
              <a:t>PROGETTO SISTIM 2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504200" cy="1150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Trebuchet MS"/>
              </a:rPr>
              <a:t>STRUMENTI D’ INTERVENTO PER ALUNNI CON BISOGNI EDUCATIVI SPECIALI E ORGANIZZAZIONE TERRITORIALE PER L’INCLUSIONE SCOLASTICA 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alunni con disabilità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alunni con DSA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alunni con altre situazioni BES (svantaggio socioeconomico, linguistico, culturale)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(MIUR, Direttiva Ministeriale, dicembre 2012; USR  Lombardia, Milano, dicembre 2013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Titolo 1" descr=""/>
          <p:cNvPicPr/>
          <p:nvPr/>
        </p:nvPicPr>
        <p:blipFill>
          <a:blip r:embed="rId1"/>
          <a:stretch/>
        </p:blipFill>
        <p:spPr>
          <a:xfrm>
            <a:off x="262080" y="-596880"/>
            <a:ext cx="7443720" cy="2065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rebuchet MS"/>
              </a:rPr>
              <a:t>(MIUR, «Ufficio immigrazione, orientamento e lotta all’abbandono  scolastico», febbraio 2014)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rebuchet MS"/>
              </a:rPr>
              <a:t>importanza dell’ Italiano L2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rebuchet MS"/>
              </a:rPr>
              <a:t>necessità di un orientamento scolastico coerente con le effettive capacità e vocazioni dei singoli alunni e libero da condizionamenti socioculturali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700" spc="-1" strike="noStrike">
                <a:solidFill>
                  <a:srgbClr val="000000"/>
                </a:solidFill>
                <a:latin typeface="Trebuchet MS"/>
              </a:rPr>
              <a:t>ruolo dei CPIA per l’istruzione e la formazione civile dei giovani stranieri 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o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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TTORI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Prefettura- sportello unico per l’immigrazion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Famiglia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Segreteria scuola secondaria di 1° e di 2° grad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Referente orientamento e intercultura scuola secondaria 1° grad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Mediatori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Referente intercultura scuola secondaria 2° grad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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STRUMENTI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profilo didattico cultural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informazioni sul sistema scolastico italiano e offerta del territorio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scheda da scuola a scuola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prove in lingua madre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□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prove di matematica e lingua straniera (su tre livelli)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6840" y="2060640"/>
            <a:ext cx="7715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irigente Scolastico: Vittorina Ferrar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ocente referenti inclusione: Emilia Gualtier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ocente referenti intercultura: Lidia Prandell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olo 1" descr=""/>
          <p:cNvPicPr/>
          <p:nvPr/>
        </p:nvPicPr>
        <p:blipFill>
          <a:blip r:embed="rId1"/>
          <a:stretch/>
        </p:blipFill>
        <p:spPr>
          <a:xfrm>
            <a:off x="231840" y="469800"/>
            <a:ext cx="7607160" cy="1236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Presentazione del sistema scolastico italian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Presentazione degli Istituti Secondari di 2° grado del territori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ilazione scheda profilo didattico cultural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omministrazione delle prove di letto-scrittura e comprensione in lingu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madre su tre livelli (albanese, arabo, rumeno, russo, ucraino, hindi,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rdu, punjabi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omministrazione delle prove in matematica e lingua stranier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(francese, ingles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Raccordo con la scuola secondaria di 2 grado individuat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lloquio finale con la famigl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Titolo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prevedono alcuni incontri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n primo incontro con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studente e famiglia: presentazione sistema scolastico, compilazione profilo didattico culturale (dati anagrafici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ncontro/i  con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studente: somministrazione prove in lingua madre (presenza del mediatore linguistico) e prove di matematica e lingua stranier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ncontro con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studente e famiglia: colloquio finale per consiglio orientativo e scuola individuat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olo 1" descr=""/>
          <p:cNvPicPr/>
          <p:nvPr/>
        </p:nvPicPr>
        <p:blipFill>
          <a:blip r:embed="rId1"/>
          <a:stretch/>
        </p:blipFill>
        <p:spPr>
          <a:xfrm>
            <a:off x="285840" y="171360"/>
            <a:ext cx="8407440" cy="1481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REFERENTE: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idia Prandelli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MAIL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diaprandelli@gmail.com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ORARI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CHIARI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MERCOLEDI’ 9.30 – 15.0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TEL. 030 711244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All’interno di tale orario sarà attivo lo SPORTELLO per l’utenza della rete dalle 12.00 alle 14.00 (su appuntamento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ADRO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UNEDI’ 12.00 -16.30 e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VENERDI’ 12.00 – 13.00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TEL. 030 7356669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olo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6840" y="1428840"/>
            <a:ext cx="8472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REFERENTE: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Emilia Gualtieri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MAIL: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rebuchet MS"/>
              </a:rPr>
              <a:t>ctrhchiari@gmail.com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it-IT" sz="1600" spc="-1" strike="noStrike" u="sng">
                <a:solidFill>
                  <a:srgbClr val="ff0000"/>
                </a:solidFill>
                <a:uFillTx/>
                <a:latin typeface="Trebuchet MS"/>
              </a:rPr>
              <a:t>info@ctrhchiari.it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ORARI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CHIARI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LUNEDI’  10.00 – 16.00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MARTEDI’ 9.30 – 15.3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TEL. 030 711244, 030 7009155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ll’interno di tale orario è attivo lo SPORTELLO per l’utenza della rete dalle 11.00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lle 13.00 (in altri orari e giorni su appuntamento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6" descr="provincia2"/>
          <p:cNvPicPr/>
          <p:nvPr/>
        </p:nvPicPr>
        <p:blipFill>
          <a:blip r:embed="rId2"/>
          <a:stretch/>
        </p:blipFill>
        <p:spPr>
          <a:xfrm>
            <a:off x="6991200" y="2494080"/>
            <a:ext cx="1433520" cy="1511280"/>
          </a:xfrm>
          <a:prstGeom prst="rect">
            <a:avLst/>
          </a:prstGeom>
          <a:ln w="0">
            <a:noFill/>
          </a:ln>
        </p:spPr>
      </p:pic>
      <p:sp>
        <p:nvSpPr>
          <p:cNvPr id="239" name="Segnaposto piè di pagina 4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olo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Consulenza agli operatori scolastici e famigli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Formazione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Documentazione “buone prassi” a supporto dei docent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Biblioteca e ausiliote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Sito web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olo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Ogni centro (CTI e CIT) ha elaborato una specifica progettazione annuale che trova punti d’incontro nelle seguenti tematiche che verranno condivise e approfondit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Trebuchet MS"/>
              </a:rPr>
              <a:t>Elaborazione di un documento guid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, a supporto delle famiglie italiane e straniere, con indicazioni rispetto a modalità e procedure da seguire rispetto al nuovo iter di certificazione e di orientamento. La costruzione di tale documento (lavoro biennale)  prevede  una collaborazione tra CTI e CIT. La commissione sarà composta da: Dirigente CTI/CIT, referente inclusione, referente intercultura, 3 referenti inclusione e 3 referenti intercultura delle istituzioni scolastiche del territorio, Sebino Franciacorta, ambito 09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olo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orso di formazione </a:t>
            </a:r>
            <a:r>
              <a:rPr b="1" lang="it-IT" sz="1800" spc="-1" strike="noStrike" u="sng">
                <a:solidFill>
                  <a:srgbClr val="000000"/>
                </a:solidFill>
                <a:uFillTx/>
                <a:latin typeface="Trebuchet MS"/>
              </a:rPr>
              <a:t>di ambito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: “Decreto legislativo n.66 201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Inclusione e Linee Guida – L.107/2015- Aspetti significativi e innovativi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Conoscenza ed applicazione della nuova normativa in ottica inclusiva 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risposta ai diversi bisogni educativi nel rispetto del dirit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all’autodeterminazione per una migliore qualità di vita. S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analizzeranno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Principi generali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indicatori di qualità dell’inclusione scolastica  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(Art 3 come richiamo all’esistente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Iter di certificazione e profilo di funzioname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Progetto Individua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PEI, PAI, Gruppi per l’inclusione scolastic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rebuchet MS"/>
              </a:rPr>
              <a:t>(6h plenaria + 6h laboratori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olo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PROPOSTA FORMATIVA DI AMBITO (10 ore) – SOFIA in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collaborazione con C.Intercultura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Seminario - Convegno: Intercultura e inclusione oggi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Contesti eterogenei, competenze e saperi per gli insegnanti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el futur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sistema educativo ed inclusivo italiano nell'era della globalizzazione: l'intercultura come fattore di crescita. Leggere il presente con uno sguardo ai prossimi anni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e competenze interculturali ed inclusive nei contesti educativi del futuro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Fare scuola in contesti multiculturali: l'educazione interculturale come risposta globa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olo 1" descr=""/>
          <p:cNvPicPr/>
          <p:nvPr/>
        </p:nvPicPr>
        <p:blipFill>
          <a:blip r:embed="rId1"/>
          <a:stretch/>
        </p:blipFill>
        <p:spPr>
          <a:xfrm>
            <a:off x="201600" y="317520"/>
            <a:ext cx="7504200" cy="11937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Percorso extrascolastico, con associazione dei genitori per promuovere iniziative di aggregazione ludiche-culturali- sportive (“Fuori Onda” … associazioni sportive, eventi culturali …) promosse dal territorio, indirizzate ai ragazzi italiani e stranieri con disabilità delle scuole secondarie di secondo grad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Segnaposto piè di pagina 3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b13f9a"/>
                </a:solidFill>
                <a:latin typeface="Arial"/>
              </a:rPr>
              <a:t>CTI/CTI ambito 9 - anno scoalstico 2017/20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dia Prandelli</dc:creator>
  <dc:description/>
  <dc:language>en-US</dc:language>
  <cp:lastModifiedBy>utente</cp:lastModifiedBy>
  <dcterms:modified xsi:type="dcterms:W3CDTF">2017-11-15T16:07:03Z</dcterms:modified>
  <cp:revision>25</cp:revision>
  <dc:subject/>
  <dc:title>Centro Territoriale Inclusione  Centro Intercultura  Ambito 9 Sebino Franciacorta</dc:title>
</cp:coreProperties>
</file>